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5BA-BCC7-4D22-91DD-9BC5F3B6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405-A41F-4989-AF46-F9AF051F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74308-74F2-4BE4-A750-6ED26D7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15956-C7A7-4ABA-98A5-AB586942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D054C-78CF-4F3B-B696-CC3C445A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86543-461A-4E67-9BA6-7FE5B87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9014-78A9-4AA8-A511-4FF4835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9C423-2676-43F8-9C5C-CCC6292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3D443-5811-42E4-B106-2AFDBA3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C256F-21EC-4394-B8ED-37D90026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48F8-C35E-4B18-86CB-3172FC86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6E0B9-C20C-4309-AC40-4B3E7479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259-DC78-4A36-9F1B-2C0F46F2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7C119-C0A2-413F-9783-579026CF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03547-1243-42A1-80CB-74421CEE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AC0C3-E559-4D87-A354-751B29C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32737-5500-4B47-9F88-B489F550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68147-FEF0-4143-9695-D680D8D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DFA61-647D-4F63-80DA-CD6630B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8D566-FFE4-435C-A77F-97BCDAD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91952-00C6-4DEE-9B58-A66A572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6F7C7-6BF0-4E04-AA1B-E9C61D6E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AEB80-E728-4EDC-8664-F8FB9E11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443-507D-480B-90BA-F536DD4B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6DE32-ADC1-4E25-BC40-91831753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23224-3A49-40E3-ACB7-7455820E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B5C3F-C2DE-4052-B021-2372D845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B0775-565B-4F56-9A43-E0099BF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1E6D5-10C8-452C-82F2-7A03BA34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70F41-E647-4A80-911B-C470DD6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AB084-A6F9-4EFB-9ACF-685F85B8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E1F4E-F15B-45B0-9735-D91046E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4E17F-0A33-4C39-B561-5D3BA83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703A-9AEC-4B27-873B-4F6CD2F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2316-6098-4FD2-9C18-A4C82CB1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0950-8979-4A3F-8447-3DA2190F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77559-55B7-4465-8A3D-36FE4141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0A80-669E-4973-AED7-E7D45710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E5324-EC19-48C8-86E0-FBE289A3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509CF-A842-4FCB-8572-423840C1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E0788-D421-44CA-875E-F5629AE8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510CE-4AAB-4552-BAA3-6C1372E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D236D-1EB5-4769-A705-66866C1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860B5-55C8-4288-AF75-5EFFA32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EAA7F-D6C0-48A0-AF03-CEF8593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431A-C608-4945-A03C-2C30936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AC355-1ADF-44DF-9CC4-E3100F88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A1095-33DC-4311-90B3-4B71869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919EA-4DD8-48E9-B1FC-43BE57AB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831F0-DA2C-4A8E-ADC0-BB7CFFED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B9E80-87F4-45E3-A24E-B4A634CE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E25-D9F7-46E2-8B03-2387BF8B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A4C-5DF9-4779-AA0D-41E108F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48A-F25B-4C5C-9DE2-80C2B2E0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1014-ECF8-4380-AD5B-41F14DD4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DC2-C897-4A67-B431-38983E4A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579-7B53-4D19-8A58-76FA7DE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01C8-35B2-481B-9498-30E2DF4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BF9-5D3F-44CC-B348-1FAAC14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CF3F-1929-4562-B525-60644381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059-53BF-4B0A-94C0-6BE15B11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2ED4-F9CE-40FA-A67C-7AC3D0B5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73F7-3D0B-4FAF-A8F2-584BBFBB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E1A7-8CF2-443A-816D-2CC10781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E023-A825-48F0-BE8E-5263069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AEDF-B84B-4A01-8366-82DB4C7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1C7B-7900-4AD5-8ACB-19F16BD6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6AC-7B38-47D6-BFF6-F6BAD77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0567-381B-4198-BFB3-16ACC13C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7A96-C5D5-463E-8CC0-128C25C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2CE2-0A3A-4B8C-ABE1-FD74292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B2D2-B43D-49DF-BDBF-97B349A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C743-83BC-493F-8BB3-71B8180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983F-AE2C-4D20-8623-CBEAE0D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41AF-6917-4ACE-9061-7BE3F60E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0F82-6E21-4B19-9E90-38A8A63E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5E23-6D02-4131-8647-89F7052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BE0F-1E45-4C16-A43C-79F06AC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29D-6AB6-4068-90EA-21C032D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497B-33EC-4B3A-AB4E-B4C86968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45D5-2CD9-429D-9C3B-536644F4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550D-58BF-4DB5-A99F-D95F44D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1E3F-6CD9-4EB3-897D-8315A72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04C5-243F-4BD1-B728-68508A4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C44F-6516-4744-9243-DADD459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E567-244B-4BEC-8403-1CE794BA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47F3-8EF3-4FEC-A1B5-E66FF4A6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4DC7-7967-4FD3-A4D7-B50E0139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9B57-9187-487D-82C4-6091D49D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CFE-697B-4FCB-B548-91B3B4F7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D62F-64A7-4439-A828-B39390E0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E2E7-4F2B-42E4-BCDC-A283CF0B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81D8-B4FC-4FF7-8185-D38F146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EC0E-3767-4175-A68A-6E1568E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EA19-7046-4172-A3BE-8B8A871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DC7E-6430-4E47-9F43-0CC208CB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2631-F455-433F-8A31-21B69C2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F69A-9185-447B-9268-C86BBCA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2115-A214-4126-8FE3-3E2A54A2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0E28-610C-46FF-A8F3-D83863B2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2C9-59E7-48EC-9A5E-ED5E2FA6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FC4D-0EAE-4C32-BBA9-2BADEF80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7E148-1CF5-4EAA-B64A-3B16999B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7EC7-D977-4B99-B076-CA00B41F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32789-C303-42C5-822C-7D16273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72A24-4621-4B11-8505-4188E035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5A57-71C1-400D-9CE7-4532574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DF84A-443F-4E77-AB27-DD30B5CD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A0EE-DC7E-4CA9-A962-70B623C7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FD11-6373-4EAE-8A9F-AFA9D3A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87BA-EC43-4440-B307-89379B5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5D0-54E9-491D-A234-3702FCA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62EC3-1961-4504-AA93-D3EAB5F5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EFFF6-F72C-4940-8757-2D2F155F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6B0B-05A2-4BD6-A6C9-DF488DB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A2C6-8C8F-4406-9FCC-FB62090A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58BD-27BE-45F0-B689-D6269043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1AB9C-9BCD-4903-B256-2E057B8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8C18-4CA6-407E-8D45-4D24D440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E812-CFD2-40B0-94AD-98B35AC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4AD71-D8D6-4093-8A4B-3344EB40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FF40-B053-42AF-8FE2-679F190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D5A-C389-4D40-880C-0477419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8CBD-397C-4B40-8B7B-BB8E33C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94E23-FF16-462D-8F2F-7889D6D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9EBC2-E2BF-455E-BFF1-FBFF6BF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26DB8-845A-4066-832F-D9A92567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E7C2A-BB53-479B-8643-15152A2B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C8B22-C13B-4863-840E-EE53FF71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FB22-8DF6-4B50-9C89-52FC936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E7E51-72E1-4DDC-828E-8F7777FF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7F3B-6C92-4FB0-BB63-0859845D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1F36-52F9-46CD-BB18-2E66B3A0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2AB-DD7C-425B-8D7E-51FA016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E168A-AA13-4C7E-803B-3CEBD552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A9AAC-F3FE-4EDA-9E64-CF0F184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1CCA-1C3A-4591-9761-EE01903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745C7-9625-4414-9879-6451EA9B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44E2-EFB0-4DBF-9859-BE81923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4594-4EDB-40A7-BC4B-3AD4E041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8B57-4E92-4A5E-92DA-D514A844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4083-FCB5-45A3-9B6F-EB4A4D7F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927B8-23B1-4D0E-A136-94F22C5C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11756-624E-46C0-9CDB-B44A29AB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D52F-C627-469F-9BC5-429A408B0C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7BC-DC1F-484B-8B91-46539E166C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A7C8-B3A5-4017-85BA-BC190E21A5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9C9-9AE6-40AD-A772-0C33C2CDCC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3A42-A304-467D-A41B-E11B423578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8C96-920C-4754-B9F8-27CE1796CE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E00-287D-45F0-83A8-79461815AD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B749-4BAB-4237-91B2-062A3BEDD8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52A-FF3F-4AB3-B65E-6113A1E787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3E6-B454-4329-8470-53ABEFC8E1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8F75-B644-4026-8882-EBEE0FBB6D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6A11-2636-4E87-BB4E-1346B749A1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2 Trón svoj si opust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050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raz vrátiš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ťa radostne priví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ou sa chveje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za krátky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š už domov nás si vz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j vždy v ňom svoj chr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ón svoj si opust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zemi 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náš Spasiteľ,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etlehemskej mašt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ti ustl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si svet prišiel zbaviť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jeli spiev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v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ľudí ťa málokto priví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ľakol si sa strá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si prišiel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 nás život svoj s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l si tu na sve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ej plané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podstúpil ťažk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však zvíťaz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abla poraz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sa ti odvďačím, Boh mô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5T08:50:20Z</dcterms:modified>
  <cp:revision>32</cp:revision>
  <dc:subject/>
  <dc:title>Je veľký náš Pán, on slávy je Kráľ Nech do všetkých strán  spev vrúcnych znie chvál.</dc:title>
</cp:coreProperties>
</file>